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E316-5F1A-44E9-A224-632998CA8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F94F-F83C-45A2-BFFF-9018907E7A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D7A2-C906-443C-8B96-87FFC48DB3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B909-6E1E-4F2A-B640-E9F88F342A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4CEA-1AFD-444D-AD08-04905CEAF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AA60-266E-4CEF-8F2A-9B95C26866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B71C-12F5-4799-828E-B4FC6DA37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05FB-EEEF-4577-9C25-47FD79584D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A1CB-E14E-4E46-9533-36ABAAEBDB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5E03-0A2F-4BAE-9348-984F62741A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F349-55FE-48ED-AB9E-038E3475F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2B8F-2272-45C8-B0A6-F5CB055501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B9AB-3A55-43C9-BBE2-882B18575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DF68-7130-4029-BFD3-C63F258E56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548C-2C41-44A0-ABF8-15ABADCA4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C1A9-0E3A-4466-82C1-1C7754D659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53DC-2722-4464-AE30-3646D4E5E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0C05-A615-454B-B50B-0D32BA4017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425A-7751-4A8C-89BD-D7F60D5B8F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7DE0-9D15-4F72-9AE8-BA211272E4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B3C3-C510-460C-90DD-08B0E03D97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2DA2-F80F-4D4A-A841-72AC2EAC0F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BF87-7DBD-4047-A53B-0765D24253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CD7F-3EC3-4DF2-8705-CFAD777A4C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F28-1103-441B-B0AD-E7327E2E6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83FD-2037-48D7-B95B-47EA617B59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D012-55FA-4A16-9E6A-68566E0B83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741D-612A-4DE7-8331-534126DD9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5431-757B-404E-86D7-8CF1AD30E3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20EF-B3C2-4402-9AAD-F56A08BF0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ECBC-C8CD-4B8B-A933-099146AD47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EC3-9017-42F2-AA6B-8DFB1EFE4D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C088-EB86-49D4-903B-DEC4342996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9289-D148-4F9B-B9DE-0BA74285CB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6D8-37FC-44A9-AB19-AE1AFA9229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3F93-952C-46AB-8AA4-91A611AE6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7675-FDE9-4EB6-80D8-61DFC9063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C0B8-6919-4928-AB5B-EEB4A49F7B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7081-917A-472F-A600-199F9B70A3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AB02-EFCB-4B0F-ACD1-01015A68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DFD-D8AA-4304-A077-8A66941B03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C93-B973-4169-9377-ABC7D17A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640-F138-47B1-845F-8D232683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A1AAFC-F32C-4D31-B5ED-4E2605C6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558CBC-59CD-4EF0-8E9C-49F037F9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3A50D7-59BF-460C-8874-9A14C394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A88E9-AA20-4B05-9BBE-27F291E4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14664-CEC5-47C8-B3CE-F53702A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3645BB-2B6D-4300-A3BC-F5FEA1EE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F181C1-E89C-4CB0-B336-AEDB869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36831-45F7-4577-A071-C1A9DD7B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F42C69-DDBC-4922-9F77-C8FA4099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AA030D-7C3A-46D4-B4D7-78B8CDA6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1F9-1B4B-4440-85AA-7E1A455E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30970C-DEC3-4C9B-BF24-7694AA4F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AC9A3B-8866-48BF-B84E-62047E3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463812-748C-4674-9237-D76A8B15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7E4625-1EB7-49CD-9DD5-95D66119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799B45-C7B3-41F9-86FD-69125682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FB16A7-0279-40BD-AE2D-160F196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D7F91-9AD3-42CF-9369-B6EEAF46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04C08F-2B07-47CB-BFCB-31AAB9F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099F72-EF56-413A-BDD4-6607779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C7748D-FA59-48F3-88BE-CBED05F0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2E1-ED67-4AFF-BC92-AC641854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E0E4D5-43A9-4BF0-91DA-F1F4A747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FF0-ED87-45E1-A1A3-65D5B0E8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5F6A-F7CA-4BD9-A3D2-D3F11B4B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C3F5-5DAD-4599-B5E9-8111AB82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337D-5938-4568-BDAD-E0CDFEC8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CD0B-5F0F-43D7-B89F-83BDE5A4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0FED-ACE9-4374-9239-502DD394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EDBE-FAEA-480C-8B3A-ABAB7656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F5C-3649-47B5-8799-78A38BD1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B4DD-7195-4E75-9B67-00F41598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A635-3EA1-43A4-B9AF-3AA075BA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01DC-9973-4CD2-84E3-4F45673E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6893-EE2D-42BD-8B8E-E3F71F23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36EA-D2EA-4FE4-94FB-9FFDD50F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7679-4B02-40F0-AEE2-E222DA7A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E830-A0B3-4646-AAE3-96885441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ABD37-18D2-41F3-AA4C-4479EC24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0B38-1257-4A74-BB70-17F10770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3F2C-5C9C-477F-B6C0-8690548C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790-2467-4302-BDB3-8340451A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5630-776D-4240-82FD-01B7A50A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33700-C53B-4A50-9D63-E5D3AC1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AC7A-F245-42EA-BBCF-8A9A88F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67589-DA7F-40D1-A981-42C7306F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5631-DDF6-49AD-BBEC-B966AE71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8C84F-19C0-4B55-BA66-2A97B80C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B6CE-9878-446A-8178-B1E7119E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07ABE-E9FE-4C17-965B-AD32A6EB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2626-78EA-4E41-8FA7-87E4DE0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95D1-368C-4066-BEFD-1CC42C82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FEC-F03B-4509-8F50-B922FEA4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4EE9-8C8D-4869-A2AE-80E5C8CB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2923-C02F-46B2-90D2-C09AA7BF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25A6-12C0-431F-9F92-DE0615B3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B1B3-8C2A-4A06-8C4C-6B48BC3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E831-68BB-4DAC-924E-98C044F5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1720-09C0-4C98-9B42-C4EA9451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A9BE-14DC-48BA-ACE3-0C14FFB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D4BD-A017-41E7-863C-2D834D2F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0572-8AD9-45C9-AC21-2F2BE183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AAE2-F7D5-4D5D-90BC-5A18DF24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C74-42C4-48B3-92C6-8F87B9FC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ADE22-B226-45AB-9000-5A29058B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14123-56A3-44D8-B439-E756DE6D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2ECA9-120B-442F-A02D-67E3811D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F17A-2C89-44E0-981F-52E09CC4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70D83-AB23-4140-83C7-B46CB41B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EAEB-1AA4-4DC3-8654-81F3DCD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4DB4-83DE-42A6-B6F7-CCED833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FBFB-277D-46D9-9517-45F356CF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AB12F-7021-4C44-A89C-F55F1094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83E8D-D543-48B8-8293-B948640B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3FC-C9E6-490F-8A0E-6C192047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E442-2CCB-42EA-8E37-5BC504A0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BB54E-BA37-4525-96AE-A52F4FAA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182A-B9DF-4BE1-8CCE-7BDE06DD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4CBB2-35E6-42A9-8B93-267A0CDF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ECB56-9B4A-4FDF-92A4-799F0225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AFF8F-370A-4871-A4D4-F7CCE891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8CD47-116E-4CFC-B60A-E06D1963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AE03-5661-4770-A033-6CE522A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ADDA7-206C-4331-AD87-FE6815E8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4B70-EF49-411A-AA5C-8E87EE5B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E36-D159-49F3-8BE8-19EBF25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DF16A-4AD0-4821-A98A-EEB6F249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E49A-0BFD-4FFF-AEC8-CD5F56F5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52858-6DA5-481B-9704-DA4E4554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D22DD-716A-4284-9A1F-A9D2EB56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CBB94-14D1-42C0-8430-8E9A2FE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806DD-2E5C-4736-8164-5529032C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5E7FE-7E44-4F08-ADD8-669591F0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0E761-0979-467C-815C-45C2ED64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E041F-9066-4BB7-AAFE-9912D13B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9DA64-274F-481E-A384-39906613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E74-691B-477F-B427-15750A0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0AA47-3D70-4D2B-A683-DAA1F191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C402-3D1A-4A20-A468-9F2F961B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2B57F-76FE-415A-A2A1-5C368259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C97DA-B00E-4FBF-AB65-A31BAF52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F0C9D-914C-404E-82DD-FA4F9FE7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D7710F-A4A5-4992-AA0E-066B64C5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933083-B963-443A-B399-EC6BE55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F0E24-7F2D-4421-B87A-26C48ED9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CF2135-3E5D-406D-A968-53DC4A9B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28427E-C8A8-46FE-ADE2-9DBFA7E6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EC9-76BF-4338-94DB-FC7B93C7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FD35E3-AEF6-448B-AFA7-2C70E5B0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CA0749-DDC4-4F01-BCB9-7E6E260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62BFDC-57D5-461F-8DCE-D2E405B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AF27CE-3D47-4234-9336-D90C0F2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503BC6-23C7-4F07-AFD9-DB176769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6FE9D-DEFE-4DF5-8E42-B0382DAF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EF4168-0A73-43A2-B64F-E16F2B35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F2E3FC-B157-4F4D-A697-55CF363E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8AFC47-509D-4AB2-A95D-848FF89A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BB7AD1-8DB8-4EAB-9219-6169C089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360F-090C-46E6-8988-D28C26DDE6F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1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493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C51A-8E95-4BFE-8027-CCD3BF94EDB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0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8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73DE-3918-4318-A4A6-D734D90D20C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113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Freeform 18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4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26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27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29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30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31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32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34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35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909-A83F-4C3D-B193-8F5B36E6177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5594-402C-4AF8-AB7A-BF0B6A365B9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8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6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7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8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9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2159-5EE3-417D-9F05-2E9B90891D7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AEDC-2DEF-49C1-92DD-8746FDDAF43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320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Rectangle 18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traight Connector 20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Group 24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25" name="Straight Connector 24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25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Straight Connector 26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28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9" name="Straight Connector 28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Straight Connector 29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Straight Connector 30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2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33" name="Straight Connector 32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33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Straight Connector 34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200B-AA4F-477A-AA51-0A43C8723A2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387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839A-1D3E-46B0-B9C5-D9C7AB04284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4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7713000" y="5486400"/>
            <a:ext cx="1433520" cy="1371600"/>
            <a:chOff x="7713000" y="5486400"/>
            <a:chExt cx="1433520" cy="1371600"/>
          </a:xfrm>
        </p:grpSpPr>
        <p:pic>
          <p:nvPicPr>
            <p:cNvPr id="440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4396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8"/>
            <p:cNvSpPr/>
            <p:nvPr/>
          </p:nvSpPr>
          <p:spPr>
            <a:xfrm>
              <a:off x="7713000" y="59133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Thermodynam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6210-4587-4BB6-94EC-7869B2ED17B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27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© </a:t>
            </a:r>
            <a:r>
              <a:rPr b="0" lang="en-US" sz="1000" spc="-1" strike="noStrike">
                <a:solidFill>
                  <a:srgbClr val="d6ecff"/>
                </a:solidFill>
                <a:latin typeface="Times New Roman"/>
              </a:rPr>
              <a:t>2009, Prentice-Hall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347760" y="2419200"/>
            <a:ext cx="811980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a process occurring at constant temperature (an isothermal process), the change in entropy is equal to the heat that would be transferred if the process were reversible divided by the temperatur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a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ases completely fill their chamber because it is more random than to leave half emp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olid </a:t>
            </a: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&lt;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liquid </a:t>
            </a: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&lt;&lt;S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ga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many more ways for the molecules to be arranged as a liquid than a sol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ases have a huge number of possible arrangem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econd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econd law of thermodynamics states that the entropy of the universe increases for spontaneous processes, and the entropy of the universe does not change for reversible proces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econd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n other words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reversible process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univ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system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surrounding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irreversible process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univ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system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surroundings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&gt; 0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econd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last truths mean that as a result of all spontaneous processes the entropy of the universe increa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on the Molecular Sca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udwig Boltzmann described the concept of entropy on the molecular leve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mperature is a measure of the average kinetic energy of the molecules in a sampl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8" descr="19_07"/>
          <p:cNvPicPr/>
          <p:nvPr/>
        </p:nvPicPr>
        <p:blipFill>
          <a:blip r:embed="rId1"/>
          <a:stretch/>
        </p:blipFill>
        <p:spPr>
          <a:xfrm>
            <a:off x="3438360" y="4114800"/>
            <a:ext cx="22672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on the Molecular Sca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olecules exhibit several types of motion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nslational:  Movement of the entire molecule from one place to anothe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Vibrational:  Periodic motion of atoms within a molecul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otational:  Rotation of the molecule on about an axis or rotation about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bond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2" name="Picture 4" descr="19_06"/>
          <p:cNvPicPr/>
          <p:nvPr/>
        </p:nvPicPr>
        <p:blipFill>
          <a:blip r:embed="rId1"/>
          <a:srcRect l="0" t="0" r="0" b="12536"/>
          <a:stretch/>
        </p:blipFill>
        <p:spPr>
          <a:xfrm>
            <a:off x="157320" y="3962520"/>
            <a:ext cx="88293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on the Molecular Sca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oltzmann envisioned the motions of a sample of molecules at a particular instant in tim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s would be akin to taking a snapshot of all the molecul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e referred to this sampling as a </a:t>
            </a:r>
            <a:r>
              <a:rPr b="0" lang="en-US" sz="2800" spc="-1" strike="noStrike">
                <a:solidFill>
                  <a:srgbClr val="ffff00"/>
                </a:solidFill>
                <a:latin typeface="Corbel"/>
              </a:rPr>
              <a:t>microstate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f the thermodynamic syste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5" name="Picture 4" descr="19_06"/>
          <p:cNvPicPr/>
          <p:nvPr/>
        </p:nvPicPr>
        <p:blipFill>
          <a:blip r:embed="rId1"/>
          <a:srcRect l="0" t="0" r="0" b="12536"/>
          <a:stretch/>
        </p:blipFill>
        <p:spPr>
          <a:xfrm>
            <a:off x="157320" y="3962520"/>
            <a:ext cx="88293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on the Molecular Sca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number of microstates and, therefore, the entropy tends to increase with increases 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mperatur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olum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number of independently moving molecul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and Physical Sta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ntropy increases with the freedom of motion of molecul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efore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&gt;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&gt;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0" name="Picture 5" descr="19_09"/>
          <p:cNvPicPr/>
          <p:nvPr/>
        </p:nvPicPr>
        <p:blipFill>
          <a:blip r:embed="rId1"/>
          <a:srcRect l="0" t="0" r="0" b="4648"/>
          <a:stretch/>
        </p:blipFill>
        <p:spPr>
          <a:xfrm>
            <a:off x="4648320" y="2290680"/>
            <a:ext cx="4343400" cy="296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irst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 will recall from Chapter 5 that energy cannot be created nor destroy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fore, the total energy of the universe is a consta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ergy can, however, be converted from one form to another or transferred from a system to the surroundings or vice vers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u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2" name="Picture 5" descr="19_10"/>
          <p:cNvPicPr/>
          <p:nvPr/>
        </p:nvPicPr>
        <p:blipFill>
          <a:blip r:embed="rId1"/>
          <a:srcRect l="0" t="0" r="0" b="3465"/>
          <a:stretch/>
        </p:blipFill>
        <p:spPr>
          <a:xfrm>
            <a:off x="152280" y="2332080"/>
            <a:ext cx="4419720" cy="28494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3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Generally, when a solid is dissolved in a solvent, entropy increas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Chang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general, entropy increases wh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ases are formed from liquids and solids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iquids or solutions are formed from solids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number of gas molecules increases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number of moles increas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6" name="Picture 8" descr="19_11"/>
          <p:cNvPicPr/>
          <p:nvPr/>
        </p:nvPicPr>
        <p:blipFill>
          <a:blip r:embed="rId1"/>
          <a:srcRect l="0" t="0" r="0" b="3474"/>
          <a:stretch/>
        </p:blipFill>
        <p:spPr>
          <a:xfrm>
            <a:off x="4648320" y="1886040"/>
            <a:ext cx="4267080" cy="375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ird Law of Thermodynam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8" name="Picture 8" descr="19_13"/>
          <p:cNvPicPr/>
          <p:nvPr/>
        </p:nvPicPr>
        <p:blipFill>
          <a:blip r:embed="rId1"/>
          <a:stretch/>
        </p:blipFill>
        <p:spPr>
          <a:xfrm>
            <a:off x="685800" y="3073320"/>
            <a:ext cx="3809880" cy="193032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entropy of a pure crystalline substance at absolute zero is 0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andard Entrop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olar entropy values of substances in their standard stat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4520" indent="-344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entropies tend to increase with increasing molar mas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2" name="Picture 8" descr="19_T02"/>
          <p:cNvPicPr/>
          <p:nvPr/>
        </p:nvPicPr>
        <p:blipFill>
          <a:blip r:embed="rId1"/>
          <a:srcRect l="0" t="12331" r="11928" b="4110"/>
          <a:stretch/>
        </p:blipFill>
        <p:spPr>
          <a:xfrm>
            <a:off x="5181480" y="1523880"/>
            <a:ext cx="25909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andard Entropi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rger and more complex molecules have greater entropi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5" name="Picture 5" descr="19_15"/>
          <p:cNvPicPr/>
          <p:nvPr/>
        </p:nvPicPr>
        <p:blipFill>
          <a:blip r:embed="rId1"/>
          <a:stretch/>
        </p:blipFill>
        <p:spPr>
          <a:xfrm>
            <a:off x="1389240" y="4114800"/>
            <a:ext cx="63655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 Chang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71360" y="1752120"/>
            <a:ext cx="8801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tropy changes for a reaction can be estimated in a manner analogous to that by which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estimate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(products)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—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>
                <a:solidFill>
                  <a:srgbClr val="ffffff"/>
                </a:solidFill>
                <a:latin typeface="Corbel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(reactants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m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re the coefficients in the balanced chemical equ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ibb's Free Energ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66320" y="12189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=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-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 at constant temperatu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ivide by -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/T = 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/T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/T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surr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/T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univ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is negative at constant T and P, the process is spontaneou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et’s Chec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r the reaction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(s)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(l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º = 22.1 J/K mol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º =6030 J/m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lculate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at 10ºC and -10º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ok at the equation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=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-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ontaneity can be predicted from the sign of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 and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G=</a:t>
            </a:r>
            <a:r>
              <a:rPr b="0" lang="en-US" sz="3600" spc="-1" strike="noStrike">
                <a:solidFill>
                  <a:srgbClr val="c1ee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H-T</a:t>
            </a:r>
            <a:r>
              <a:rPr b="0" lang="en-US" sz="3600" spc="-1" strike="noStrike">
                <a:solidFill>
                  <a:srgbClr val="c1ee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643" name="Group 6"/>
          <p:cNvGrpSpPr/>
          <p:nvPr/>
        </p:nvGrpSpPr>
        <p:grpSpPr>
          <a:xfrm>
            <a:off x="1127160" y="1149480"/>
            <a:ext cx="5852160" cy="606960"/>
            <a:chOff x="1127160" y="1149480"/>
            <a:chExt cx="5852160" cy="606960"/>
          </a:xfrm>
        </p:grpSpPr>
        <p:sp>
          <p:nvSpPr>
            <p:cNvPr id="644" name="Rectangle 3"/>
            <p:cNvSpPr/>
            <p:nvPr/>
          </p:nvSpPr>
          <p:spPr>
            <a:xfrm>
              <a:off x="2498760" y="1225440"/>
              <a:ext cx="7275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4"/>
            <p:cNvSpPr/>
            <p:nvPr/>
          </p:nvSpPr>
          <p:spPr>
            <a:xfrm>
              <a:off x="1127160" y="1225440"/>
              <a:ext cx="70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5"/>
            <p:cNvSpPr/>
            <p:nvPr/>
          </p:nvSpPr>
          <p:spPr>
            <a:xfrm>
              <a:off x="4176000" y="1149480"/>
              <a:ext cx="28033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pontaneous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Rectangle 7"/>
          <p:cNvSpPr/>
          <p:nvPr/>
        </p:nvSpPr>
        <p:spPr>
          <a:xfrm>
            <a:off x="1279440" y="171144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2727000" y="171144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9"/>
          <p:cNvSpPr/>
          <p:nvPr/>
        </p:nvSpPr>
        <p:spPr>
          <a:xfrm>
            <a:off x="4100040" y="1835280"/>
            <a:ext cx="37285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ll Temper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10"/>
          <p:cNvSpPr/>
          <p:nvPr/>
        </p:nvSpPr>
        <p:spPr>
          <a:xfrm>
            <a:off x="1279440" y="26892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11"/>
          <p:cNvSpPr/>
          <p:nvPr/>
        </p:nvSpPr>
        <p:spPr>
          <a:xfrm>
            <a:off x="2651040" y="26892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2"/>
          <p:cNvSpPr/>
          <p:nvPr/>
        </p:nvSpPr>
        <p:spPr>
          <a:xfrm>
            <a:off x="3948120" y="2521080"/>
            <a:ext cx="417960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tempera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opy drive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3"/>
          <p:cNvSpPr/>
          <p:nvPr/>
        </p:nvSpPr>
        <p:spPr>
          <a:xfrm>
            <a:off x="1279080" y="398448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14"/>
          <p:cNvSpPr/>
          <p:nvPr/>
        </p:nvSpPr>
        <p:spPr>
          <a:xfrm>
            <a:off x="2650680" y="398448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5"/>
          <p:cNvSpPr/>
          <p:nvPr/>
        </p:nvSpPr>
        <p:spPr>
          <a:xfrm>
            <a:off x="3871080" y="3816360"/>
            <a:ext cx="402264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ow tempera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halpy drive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6"/>
          <p:cNvSpPr/>
          <p:nvPr/>
        </p:nvSpPr>
        <p:spPr>
          <a:xfrm>
            <a:off x="2651040" y="5203800"/>
            <a:ext cx="511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1279080" y="5203800"/>
            <a:ext cx="37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8"/>
          <p:cNvSpPr/>
          <p:nvPr/>
        </p:nvSpPr>
        <p:spPr>
          <a:xfrm>
            <a:off x="3870360" y="5035680"/>
            <a:ext cx="4545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t any temperatu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is spont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9"/>
          <p:cNvSpPr/>
          <p:nvPr/>
        </p:nvSpPr>
        <p:spPr>
          <a:xfrm>
            <a:off x="609480" y="1676520"/>
            <a:ext cx="7925040" cy="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20"/>
          <p:cNvSpPr/>
          <p:nvPr/>
        </p:nvSpPr>
        <p:spPr>
          <a:xfrm>
            <a:off x="609480" y="3657600"/>
            <a:ext cx="7925040" cy="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21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22"/>
          <p:cNvSpPr/>
          <p:nvPr/>
        </p:nvSpPr>
        <p:spPr>
          <a:xfrm>
            <a:off x="609480" y="2362320"/>
            <a:ext cx="7925040" cy="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23"/>
          <p:cNvSpPr/>
          <p:nvPr/>
        </p:nvSpPr>
        <p:spPr>
          <a:xfrm>
            <a:off x="2286000" y="1219320"/>
            <a:ext cx="0" cy="525780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24"/>
          <p:cNvSpPr/>
          <p:nvPr/>
        </p:nvSpPr>
        <p:spPr>
          <a:xfrm>
            <a:off x="3657600" y="1143000"/>
            <a:ext cx="0" cy="5257800"/>
          </a:xfrm>
          <a:prstGeom prst="line">
            <a:avLst/>
          </a:prstGeom>
          <a:ln w="2556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ibbs Free Energ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6" name="Picture 8" descr="19_18"/>
          <p:cNvPicPr/>
          <p:nvPr/>
        </p:nvPicPr>
        <p:blipFill>
          <a:blip r:embed="rId1"/>
          <a:srcRect l="0" t="0" r="0" b="2763"/>
          <a:stretch/>
        </p:blipFill>
        <p:spPr>
          <a:xfrm>
            <a:off x="0" y="2819520"/>
            <a:ext cx="4572000" cy="3951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9076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is negative, the forward reaction is spontaneou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is 0, the system is at equilibriu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is positive, the reaction is spontaneous in the reverse direc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pontaneous Proces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pontaneous processes are those that can proceed without any outside interven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gas in vessel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pontaneously effuse into vessel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, but once the gas is in both vessels, it will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spontaneously return to vessel </a:t>
            </a: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8" name="Picture 5" descr="19_01"/>
          <p:cNvPicPr/>
          <p:nvPr/>
        </p:nvPicPr>
        <p:blipFill>
          <a:blip r:embed="rId1"/>
          <a:srcRect l="0" t="0" r="0" b="11099"/>
          <a:stretch/>
        </p:blipFill>
        <p:spPr>
          <a:xfrm>
            <a:off x="5181480" y="1676520"/>
            <a:ext cx="2970360" cy="456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in Rea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 = standard free energy chang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ee energy change that will occur if reactants in their standard state turn to products in their standard st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n’t be measured directly, can be calculated from other measurem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=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º-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º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Hess’s Law with known reactio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andard Free Energy Chang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alogous to standard enthalpies of formation are standard free energies of formation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f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672" name="Group 8"/>
          <p:cNvGrpSpPr/>
          <p:nvPr/>
        </p:nvGrpSpPr>
        <p:grpSpPr>
          <a:xfrm>
            <a:off x="854280" y="4059360"/>
            <a:ext cx="7715880" cy="831240"/>
            <a:chOff x="854280" y="4059360"/>
            <a:chExt cx="7715880" cy="831240"/>
          </a:xfrm>
        </p:grpSpPr>
        <p:sp>
          <p:nvSpPr>
            <p:cNvPr id="673" name="Rectangle 5"/>
            <p:cNvSpPr/>
            <p:nvPr/>
          </p:nvSpPr>
          <p:spPr>
            <a:xfrm>
              <a:off x="854280" y="4059360"/>
              <a:ext cx="77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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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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(products)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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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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(reactants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6"/>
            <p:cNvSpPr/>
            <p:nvPr/>
          </p:nvSpPr>
          <p:spPr>
            <a:xfrm>
              <a:off x="3105360" y="4241880"/>
              <a:ext cx="246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baseline="-25000">
                  <a:solidFill>
                    <a:srgbClr val="ffff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7"/>
            <p:cNvSpPr/>
            <p:nvPr/>
          </p:nvSpPr>
          <p:spPr>
            <a:xfrm>
              <a:off x="6580800" y="4241880"/>
              <a:ext cx="377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  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Rectangle 9"/>
          <p:cNvSpPr/>
          <p:nvPr/>
        </p:nvSpPr>
        <p:spPr>
          <a:xfrm>
            <a:off x="685800" y="501984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re the stoichiometric coeffic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in Reacti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tables of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ducts-reactants agai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tandard free energy of formation for any element in its standard state is 0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member- Spontaneity tells us nothing about r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Chang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t temperatures other than 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Arial"/>
              </a:rPr>
              <a:t>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Arial"/>
              </a:rPr>
              <a:t>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w doe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hange with temperature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Temperat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two parts to the free energy equ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— the enthalpy t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T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— the entropy t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temperature dependence of free energy, then comes from the entropy ter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Temperat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84" name="Picture 7" descr="19_T04"/>
          <p:cNvPicPr/>
          <p:nvPr/>
        </p:nvPicPr>
        <p:blipFill>
          <a:blip r:embed="rId1"/>
          <a:srcRect l="0" t="0" r="0" b="12043"/>
          <a:stretch/>
        </p:blipFill>
        <p:spPr>
          <a:xfrm>
            <a:off x="343080" y="2057400"/>
            <a:ext cx="8458200" cy="21337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8"/>
          <p:cNvSpPr/>
          <p:nvPr/>
        </p:nvSpPr>
        <p:spPr>
          <a:xfrm>
            <a:off x="403200" y="2166840"/>
            <a:ext cx="990720" cy="152640"/>
          </a:xfrm>
          <a:prstGeom prst="rect">
            <a:avLst/>
          </a:prstGeom>
          <a:solidFill>
            <a:srgbClr val="007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Equilibriu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der any conditions, standard or nonstandard, the free energy change can be found this way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RT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n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Q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(Under standard conditions, all concentrations are 1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so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= 1 and ln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= 0; the last term drops out.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Press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 +RTln(Q) where Q is the reaction quotients (P of the products /P of the reactants all raised to their coefficient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(g)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(g)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H(l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ould the reaction be spontaneous at 25ºC with the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essure of 5.0 atm and the CO pressure of 3.0 at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H(l) = -166 kJ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O(g) = -137 kJ    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rbel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(g) = 0 kJ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ee Energy and Equilibriu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t equilibrium,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Q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K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and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0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quation becom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+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R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ln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arranging, this becom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R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ln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r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K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692" name="Group 6"/>
          <p:cNvGrpSpPr/>
          <p:nvPr/>
        </p:nvGrpSpPr>
        <p:grpSpPr>
          <a:xfrm>
            <a:off x="4437000" y="4648320"/>
            <a:ext cx="634680" cy="642600"/>
            <a:chOff x="4437000" y="4648320"/>
            <a:chExt cx="634680" cy="642600"/>
          </a:xfrm>
        </p:grpSpPr>
        <p:sp>
          <p:nvSpPr>
            <p:cNvPr id="693" name="Text Box 4"/>
            <p:cNvSpPr/>
            <p:nvPr/>
          </p:nvSpPr>
          <p:spPr>
            <a:xfrm>
              <a:off x="4437000" y="4648320"/>
              <a:ext cx="63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>
              <a:off x="4455360" y="4965840"/>
              <a:ext cx="60192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far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tells us spontaneity at current conditions. When will it stop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will go to the lowest possible free energy which may be an equilibriu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t equilibrium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 = 0, Q = 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º = -RTln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pontaneous Proces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50" name="Picture 5" descr="19_02"/>
          <p:cNvPicPr/>
          <p:nvPr/>
        </p:nvPicPr>
        <p:blipFill>
          <a:blip r:embed="rId1"/>
          <a:srcRect l="0" t="0" r="0" b="4082"/>
          <a:stretch/>
        </p:blipFill>
        <p:spPr>
          <a:xfrm>
            <a:off x="838080" y="1219320"/>
            <a:ext cx="2741760" cy="52578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38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ocesses that are spontaneous in one direction are nonspontaneous in the reverse direction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680760"/>
            <a:ext cx="71629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ffff"/>
                </a:solidFill>
                <a:latin typeface="Consolas"/>
              </a:rPr>
              <a:t>G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onsolas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Consolas"/>
              </a:rPr>
              <a:t>         K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pontaneous Proces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cesses that are spontaneous at one temperature may be nonspontaneous at other temperatur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bove 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 it is spontaneous for ice to mel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elow 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 the reverse process is spontaneou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4" name="Picture 5" descr="19_03"/>
          <p:cNvPicPr/>
          <p:nvPr/>
        </p:nvPicPr>
        <p:blipFill>
          <a:blip r:embed="rId1"/>
          <a:stretch/>
        </p:blipFill>
        <p:spPr>
          <a:xfrm>
            <a:off x="2333520" y="4114800"/>
            <a:ext cx="447696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Entropy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(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) is a term coined by Rudolph Clausius in the 19th centur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ausius was convinced of the significance of the ratio of heat delivered and the temperature at which it is delivered,     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3689280" y="4343400"/>
            <a:ext cx="457200" cy="1068840"/>
            <a:chOff x="3689280" y="4343400"/>
            <a:chExt cx="457200" cy="1068840"/>
          </a:xfrm>
        </p:grpSpPr>
        <p:sp>
          <p:nvSpPr>
            <p:cNvPr id="558" name="Rectangle 4"/>
            <p:cNvSpPr/>
            <p:nvPr/>
          </p:nvSpPr>
          <p:spPr>
            <a:xfrm>
              <a:off x="3706200" y="4343400"/>
              <a:ext cx="429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>
              <a:off x="3689280" y="4914720"/>
              <a:ext cx="4572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tropy can be thought of as a measure of the randomness of a sys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is related to the various modes of motion in molecul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7"/>
          <p:cNvGrpSpPr/>
          <p:nvPr/>
        </p:nvGrpSpPr>
        <p:grpSpPr>
          <a:xfrm>
            <a:off x="5181480" y="3657600"/>
            <a:ext cx="2743200" cy="1066680"/>
            <a:chOff x="5181480" y="3657600"/>
            <a:chExt cx="2743200" cy="1066680"/>
          </a:xfrm>
        </p:grpSpPr>
        <p:sp>
          <p:nvSpPr>
            <p:cNvPr id="563" name="Oval 2"/>
            <p:cNvSpPr/>
            <p:nvPr/>
          </p:nvSpPr>
          <p:spPr>
            <a:xfrm>
              <a:off x="5181480" y="36576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"/>
            <p:cNvSpPr/>
            <p:nvPr/>
          </p:nvSpPr>
          <p:spPr>
            <a:xfrm>
              <a:off x="6172200" y="41148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6324480" y="3657600"/>
              <a:ext cx="1600200" cy="1066680"/>
              <a:chOff x="6324480" y="3657600"/>
              <a:chExt cx="1600200" cy="1066680"/>
            </a:xfrm>
          </p:grpSpPr>
          <p:sp>
            <p:nvSpPr>
              <p:cNvPr id="566" name="Oval 4"/>
              <p:cNvSpPr/>
              <p:nvPr/>
            </p:nvSpPr>
            <p:spPr>
              <a:xfrm>
                <a:off x="6858000" y="36576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5"/>
              <p:cNvSpPr/>
              <p:nvPr/>
            </p:nvSpPr>
            <p:spPr>
              <a:xfrm>
                <a:off x="6324480" y="41148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Rectangle 8"/>
          <p:cNvSpPr/>
          <p:nvPr/>
        </p:nvSpPr>
        <p:spPr>
          <a:xfrm>
            <a:off x="624852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6400800" y="5334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10"/>
          <p:cNvSpPr/>
          <p:nvPr/>
        </p:nvSpPr>
        <p:spPr>
          <a:xfrm>
            <a:off x="525780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11"/>
          <p:cNvSpPr/>
          <p:nvPr/>
        </p:nvSpPr>
        <p:spPr>
          <a:xfrm>
            <a:off x="6934320" y="4876920"/>
            <a:ext cx="106668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12"/>
          <p:cNvSpPr/>
          <p:nvPr/>
        </p:nvSpPr>
        <p:spPr>
          <a:xfrm>
            <a:off x="5715000" y="5334120"/>
            <a:ext cx="228600" cy="228600"/>
          </a:xfrm>
          <a:prstGeom prst="ellipse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Oval 13"/>
          <p:cNvSpPr/>
          <p:nvPr/>
        </p:nvSpPr>
        <p:spPr>
          <a:xfrm>
            <a:off x="5562720" y="5029200"/>
            <a:ext cx="228600" cy="228600"/>
          </a:xfrm>
          <a:prstGeom prst="ellipse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Group 19"/>
          <p:cNvGrpSpPr/>
          <p:nvPr/>
        </p:nvGrpSpPr>
        <p:grpSpPr>
          <a:xfrm>
            <a:off x="5029200" y="609480"/>
            <a:ext cx="2743200" cy="1067040"/>
            <a:chOff x="5029200" y="609480"/>
            <a:chExt cx="2743200" cy="1067040"/>
          </a:xfrm>
        </p:grpSpPr>
        <p:sp>
          <p:nvSpPr>
            <p:cNvPr id="575" name="Oval 14"/>
            <p:cNvSpPr/>
            <p:nvPr/>
          </p:nvSpPr>
          <p:spPr>
            <a:xfrm>
              <a:off x="5029200" y="60948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Rectangle 15"/>
            <p:cNvSpPr/>
            <p:nvPr/>
          </p:nvSpPr>
          <p:spPr>
            <a:xfrm>
              <a:off x="6019920" y="106668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Group 18"/>
            <p:cNvGrpSpPr/>
            <p:nvPr/>
          </p:nvGrpSpPr>
          <p:grpSpPr>
            <a:xfrm>
              <a:off x="6172200" y="609480"/>
              <a:ext cx="1600200" cy="1067040"/>
              <a:chOff x="6172200" y="609480"/>
              <a:chExt cx="1600200" cy="1067040"/>
            </a:xfrm>
          </p:grpSpPr>
          <p:sp>
            <p:nvSpPr>
              <p:cNvPr id="578" name="Oval 16"/>
              <p:cNvSpPr/>
              <p:nvPr/>
            </p:nvSpPr>
            <p:spPr>
              <a:xfrm>
                <a:off x="6705720" y="609480"/>
                <a:ext cx="1066680" cy="10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17"/>
              <p:cNvSpPr/>
              <p:nvPr/>
            </p:nvSpPr>
            <p:spPr>
              <a:xfrm>
                <a:off x="6172200" y="1066680"/>
                <a:ext cx="6094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5"/>
          <p:cNvGrpSpPr/>
          <p:nvPr/>
        </p:nvGrpSpPr>
        <p:grpSpPr>
          <a:xfrm>
            <a:off x="5181480" y="2057400"/>
            <a:ext cx="2743200" cy="1066680"/>
            <a:chOff x="5181480" y="2057400"/>
            <a:chExt cx="2743200" cy="1066680"/>
          </a:xfrm>
        </p:grpSpPr>
        <p:sp>
          <p:nvSpPr>
            <p:cNvPr id="581" name="Oval 20"/>
            <p:cNvSpPr/>
            <p:nvPr/>
          </p:nvSpPr>
          <p:spPr>
            <a:xfrm>
              <a:off x="5181480" y="20574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Rectangle 21"/>
            <p:cNvSpPr/>
            <p:nvPr/>
          </p:nvSpPr>
          <p:spPr>
            <a:xfrm>
              <a:off x="6172200" y="25146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3" name="Group 24"/>
            <p:cNvGrpSpPr/>
            <p:nvPr/>
          </p:nvGrpSpPr>
          <p:grpSpPr>
            <a:xfrm>
              <a:off x="6324480" y="2057400"/>
              <a:ext cx="1600200" cy="1066680"/>
              <a:chOff x="6324480" y="2057400"/>
              <a:chExt cx="1600200" cy="1066680"/>
            </a:xfrm>
          </p:grpSpPr>
          <p:sp>
            <p:nvSpPr>
              <p:cNvPr id="584" name="Oval 22"/>
              <p:cNvSpPr/>
              <p:nvPr/>
            </p:nvSpPr>
            <p:spPr>
              <a:xfrm>
                <a:off x="6858000" y="205740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23"/>
              <p:cNvSpPr/>
              <p:nvPr/>
            </p:nvSpPr>
            <p:spPr>
              <a:xfrm>
                <a:off x="6324480" y="2514600"/>
                <a:ext cx="6098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Oval 26"/>
          <p:cNvSpPr/>
          <p:nvPr/>
        </p:nvSpPr>
        <p:spPr>
          <a:xfrm>
            <a:off x="5568840" y="3816360"/>
            <a:ext cx="216000" cy="216000"/>
          </a:xfrm>
          <a:prstGeom prst="ellipse">
            <a:avLst/>
          </a:prstGeom>
          <a:solidFill>
            <a:srgbClr val="d6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7"/>
          <p:cNvSpPr/>
          <p:nvPr/>
        </p:nvSpPr>
        <p:spPr>
          <a:xfrm>
            <a:off x="990720" y="1371600"/>
            <a:ext cx="3504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ossible arran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% chance of finding the left emp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% chance of them being evenly dispe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8"/>
          <p:cNvSpPr/>
          <p:nvPr/>
        </p:nvSpPr>
        <p:spPr>
          <a:xfrm>
            <a:off x="7321680" y="3816360"/>
            <a:ext cx="215640" cy="216000"/>
          </a:xfrm>
          <a:prstGeom prst="ellipse">
            <a:avLst/>
          </a:prstGeom>
          <a:solidFill>
            <a:srgbClr val="ea15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9"/>
          <p:cNvSpPr/>
          <p:nvPr/>
        </p:nvSpPr>
        <p:spPr>
          <a:xfrm>
            <a:off x="6940440" y="920880"/>
            <a:ext cx="216000" cy="215640"/>
          </a:xfrm>
          <a:prstGeom prst="ellipse">
            <a:avLst/>
          </a:prstGeom>
          <a:solidFill>
            <a:srgbClr val="d6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30"/>
          <p:cNvSpPr/>
          <p:nvPr/>
        </p:nvSpPr>
        <p:spPr>
          <a:xfrm>
            <a:off x="7397640" y="996840"/>
            <a:ext cx="216000" cy="216000"/>
          </a:xfrm>
          <a:prstGeom prst="ellipse">
            <a:avLst/>
          </a:prstGeom>
          <a:solidFill>
            <a:srgbClr val="ea15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31"/>
          <p:cNvSpPr/>
          <p:nvPr/>
        </p:nvSpPr>
        <p:spPr>
          <a:xfrm>
            <a:off x="7321680" y="2444760"/>
            <a:ext cx="215640" cy="216000"/>
          </a:xfrm>
          <a:prstGeom prst="ellipse">
            <a:avLst/>
          </a:prstGeom>
          <a:solidFill>
            <a:srgbClr val="d6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32"/>
          <p:cNvSpPr/>
          <p:nvPr/>
        </p:nvSpPr>
        <p:spPr>
          <a:xfrm>
            <a:off x="5416560" y="2444760"/>
            <a:ext cx="216000" cy="216000"/>
          </a:xfrm>
          <a:prstGeom prst="ellipse">
            <a:avLst/>
          </a:prstGeom>
          <a:solidFill>
            <a:srgbClr val="ea15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26"/>
          <p:cNvSpPr/>
          <p:nvPr/>
        </p:nvSpPr>
        <p:spPr>
          <a:xfrm>
            <a:off x="5562720" y="5029200"/>
            <a:ext cx="215640" cy="216000"/>
          </a:xfrm>
          <a:prstGeom prst="ellipse">
            <a:avLst/>
          </a:prstGeom>
          <a:solidFill>
            <a:srgbClr val="d6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8"/>
          <p:cNvSpPr/>
          <p:nvPr/>
        </p:nvSpPr>
        <p:spPr>
          <a:xfrm>
            <a:off x="5715000" y="5334120"/>
            <a:ext cx="216000" cy="215640"/>
          </a:xfrm>
          <a:prstGeom prst="ellipse">
            <a:avLst/>
          </a:prstGeom>
          <a:solidFill>
            <a:srgbClr val="ea15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ke total energy,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and enthalpy,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entropy is a state func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fore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final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initi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22:18:05Z</dcterms:created>
  <dc:creator>John Bookstaver</dc:creator>
  <dc:description/>
  <dc:language>en-US</dc:language>
  <cp:lastModifiedBy>Windows User</cp:lastModifiedBy>
  <dcterms:modified xsi:type="dcterms:W3CDTF">2011-01-31T17:50:05Z</dcterms:modified>
  <cp:revision>61</cp:revision>
  <dc:subject/>
  <dc:title>Chapter 19 Chemical Thermodynamics</dc:title>
</cp:coreProperties>
</file>